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E6B8-2841-4C1F-ADB6-DF53F2A7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433-DD35-448A-9D22-83BEBA87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C20B-9D31-4C00-B273-E465A3E4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66E7-F2E9-4428-801A-D2C38A05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F7E4-BFE0-4EDF-8E7E-A6442C52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B1BA-AAB2-4089-B27B-B75A589A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8F95-A398-494C-B1BE-8C662A3E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2EA7-6D91-49AE-8079-FC0979C7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1299-18AD-420C-BEEE-4CF24FE7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C181-DA02-42C4-A917-A2D06E3A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80B-16A6-49CB-B461-EBCE7C64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68B1-246D-4340-800E-8C84C16A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4A22-9533-4790-B6A7-31594B8C0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5486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Gra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ht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buil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ga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brough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com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dow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frien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do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fin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fathe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h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hav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nt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kn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loo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an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othe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pu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m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no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aw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e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ai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om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re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wa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a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o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ver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en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an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e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thei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you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e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buil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bou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lov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ho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er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ful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ful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pul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wan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go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gains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bo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6:48:18Z</dcterms:created>
  <dc:creator>jacourtney</dc:creator>
  <dc:description/>
  <dc:language>en-US</dc:language>
  <cp:lastModifiedBy>V.henshaw</cp:lastModifiedBy>
  <dcterms:modified xsi:type="dcterms:W3CDTF">2004-09-24T21:12:13Z</dcterms:modified>
  <cp:revision>4</cp:revision>
  <dc:subject/>
  <dc:title>First Grade Site Words</dc:title>
</cp:coreProperties>
</file>